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73B-0BF2-4779-B135-571350D5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B4E-5FA3-41A0-9385-EF9C6A85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2C3-C1CE-477F-BD91-762391B0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0F4-A3C7-482F-8377-F9CF2E83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5E9-47AE-4360-BACB-E42AFC6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FC66-6CE5-4D9D-A2AB-0C49D64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68EA-0C07-4CE8-BF80-EEC69EC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779-743F-45CF-A9E9-AA858853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DAC-4906-44F4-8014-108CF588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140A-8A3E-4FDE-B12B-A531C49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04C-2F33-4951-BC7D-F0283F4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5E4-FC48-4059-962C-C7D10874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615-5812-48E4-8E62-E4C4042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11D-2976-419F-9B4A-0FBEFF2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53C8-2B56-483B-94B4-FF73FE7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00E-B90F-4B90-AB0C-19A89CDD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9950-F83B-4A0A-80EB-4E0BC6BD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CCA-B779-4BDF-9035-83087BE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592-FD7A-4D9B-93DE-9A39F9F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2B3-8154-4955-B2D7-DB296619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C01-9069-46F0-9917-41A3855C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80D-E5CB-4049-97F2-13DBBBD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184-E60E-4A75-B8D6-C677B31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067-6796-4B6B-8187-88B4234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9B9D-2E78-40BE-818E-49A3692905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5886-956C-4807-86E4-AE23E857C9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Henry-VIII-kingofengland_1491-1547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Suisse_cantons.svg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hyperlink" Target="http://upload.wikimedia.org/wikipedia/commons/d/df/Ulrich-Zwingli-1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upload.wikimedia.org/wikipedia/commons/b/bc/Portrait_john_calvin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a/Autograf%2C_Martin_Luther%2C_Nordisk_familjebok.pn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upload.wikimedia.org/wikipedia/commons/6/61/Luther46c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upload.wikimedia.org/wikipedia/commons/1/15/Petersdom_von_Engelsburg_gesehen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en.wikipedia.org/wiki/File:St_Peter%27s_Square,_Vatican_City_-_April_2007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Protestant Reform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. Pagliaro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ymour High Schoo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Church: Lutheranism (see diagram pg 49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eader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lv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th al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i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of religious tru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aching &amp; Ritu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lievers interpret Bible on ow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33960" y="838080"/>
            <a:ext cx="380052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asants Revo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2821" b="21514"/>
          <a:stretch/>
        </p:blipFill>
        <p:spPr>
          <a:xfrm>
            <a:off x="0" y="1295280"/>
            <a:ext cx="5486400" cy="4133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371600" y="2666880"/>
            <a:ext cx="190512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33880" y="2209680"/>
            <a:ext cx="4110120" cy="46483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uther made an outlaw by Emperor Charles V in 152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man princes objec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theran &amp; Catholic princes signed Peace of Augsburg, 155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prince chose Lutheranism or Catholicis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37176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this matter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etition between Catholics and Protestants to spread their version of Christianity throughout the worl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holics and Protestants are found on every contin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Reformation Grows: The Church of Eng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gan when Henry VIII wanted divor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ried to Catherine of Aragon (aunt of Charles V, H.R.E.) for 24 years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orce refused by Po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’ influe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nry left RC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nded Protestant Anglican Church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 of Supremacy 153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ing is supreme head of Church in Englan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ced parliament to agre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cellor, Thomas More wouldn’t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40-Dissolution of Catholic Shrines and Monasteri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59-Act of Uniform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File:Henry-VIII-kingofengland 1491-154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9720" y="1523880"/>
            <a:ext cx="2924280" cy="533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File:Hans Holbein d. J. 065.jpg"/>
          <p:cNvPicPr/>
          <p:nvPr/>
        </p:nvPicPr>
        <p:blipFill>
          <a:blip r:embed="rId4"/>
          <a:stretch/>
        </p:blipFill>
        <p:spPr>
          <a:xfrm>
            <a:off x="6176880" y="3124080"/>
            <a:ext cx="296712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mpact did Henry VIII’s actions have on the culture and religion of England for the rest of the 1500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Reformation Spreads: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ohn Calvin (Geneva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vinism (Hugueno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ilar to Lutheranis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destin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lrich Zwingli (Zürich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ple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vice focused on B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un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0" y="2133720"/>
            <a:ext cx="6857640" cy="4723920"/>
            <a:chOff x="2286000" y="2133720"/>
            <a:chExt cx="6857640" cy="4723920"/>
          </a:xfrm>
        </p:grpSpPr>
        <p:pic>
          <p:nvPicPr>
            <p:cNvPr id="135" name="" descr="File:Suisse cantons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109760" y="3226320"/>
              <a:ext cx="5033880" cy="363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611840" y="2133720"/>
              <a:ext cx="1167120" cy="5950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1615"/>
                <a:gd name="adj5" fmla="val 268750"/>
                <a:gd name="adj6" fmla="val -3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Zü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6002280"/>
              <a:ext cx="1459080" cy="5947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4583"/>
                <a:gd name="adj5" fmla="val -18750"/>
                <a:gd name="adj6" fmla="val 14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4006800"/>
            <a:ext cx="4419720" cy="2851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24080" y="5029200"/>
            <a:ext cx="2895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File:Ulrich-Zwingli-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32480" y="0"/>
            <a:ext cx="271152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File:Portrait john calvi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2666880"/>
            <a:ext cx="27576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Reformation Sprea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Protestant Grou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397160"/>
          <a:ext cx="6934320" cy="5170320"/>
        </p:xfrm>
        <a:graphic>
          <a:graphicData uri="http://schemas.openxmlformats.org/drawingml/2006/table">
            <a:tbl>
              <a:tblPr/>
              <a:tblGrid>
                <a:gridCol w="2362320"/>
                <a:gridCol w="45720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gueno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nch Calvi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byter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ottish Calvinists, led by John Kn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bap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ecessor of Mennonites, the Amish, Quakers, and Bap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it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licans with Calvinist infl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itans that wanted to break from the Anglican Church (Most notably the Pilgri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Catholic Counter Reform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rpose: help define and reform Catholicis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ep loyal mem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ey figur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gnatius Loyol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e Paul II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e Paul IV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23200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File:Tizian 068.jpg"/>
          <p:cNvPicPr/>
          <p:nvPr/>
        </p:nvPicPr>
        <p:blipFill>
          <a:blip r:embed="rId3"/>
          <a:stretch/>
        </p:blipFill>
        <p:spPr>
          <a:xfrm>
            <a:off x="3581280" y="3352680"/>
            <a:ext cx="3021120" cy="3505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676520" y="617220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oyo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9880" y="60958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ul 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0" y="60199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ul 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Jesui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Society of Jesus-New religious order, formed in 154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er: Ignatius Loyol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Principles of Jesui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ions &amp; 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litary-like train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.K.A. The Soldiers of Chris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p spread of Re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of Faith &amp; Reas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s of Jesuit colleges-BC, Georgetown, Gonzaga, Fairfield U, Marquett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File:Ihs-logo.svg"/>
          <p:cNvPicPr/>
          <p:nvPr/>
        </p:nvPicPr>
        <p:blipFill>
          <a:blip r:embed="rId2"/>
          <a:stretch/>
        </p:blipFill>
        <p:spPr>
          <a:xfrm>
            <a:off x="7086600" y="533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81720" y="2590920"/>
            <a:ext cx="2762280" cy="24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24480" y="2286000"/>
            <a:ext cx="2432160" cy="28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477120" y="2133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477120" y="2743200"/>
            <a:ext cx="23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324480" y="2971800"/>
            <a:ext cx="2819520" cy="1965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in Ide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OLU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tin Luther’s protest over abuses in the Catholic Church led to the founding of Protestant church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uncil of Tre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led by Pope Paul I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45-156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rified difference between Catholic and Protest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ter-acted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urch interprets B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interpretation=heres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ith &amp; Good works earned a spot in heav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ith alone didn’t sa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ble and Church tradition equal guides to Christian li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ulgences val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le of indulgences bann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unter Reformation Ac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quis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of Forbidden Boo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0574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etition fo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7432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th groups sent missionaries to Asia, Africa, and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w Worl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 ga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740640" y="3657600"/>
              <a:ext cx="2403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4160880" y="3657600"/>
              <a:ext cx="2573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1752480" y="3657600"/>
              <a:ext cx="240372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0" y="3657600"/>
              <a:ext cx="213372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File:Xavier f map of voyages asia.PNG"/>
          <p:cNvPicPr/>
          <p:nvPr/>
        </p:nvPicPr>
        <p:blipFill>
          <a:blip r:embed="rId6"/>
          <a:stretch/>
        </p:blipFill>
        <p:spPr>
          <a:xfrm>
            <a:off x="1523880" y="2343240"/>
            <a:ext cx="7620120" cy="4514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File:Franciscus de Xabier.jpg"/>
          <p:cNvPicPr/>
          <p:nvPr/>
        </p:nvPicPr>
        <p:blipFill>
          <a:blip r:embed="rId7"/>
          <a:stretch/>
        </p:blipFill>
        <p:spPr>
          <a:xfrm>
            <a:off x="4800600" y="0"/>
            <a:ext cx="2719440" cy="341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0"/>
            <a:ext cx="4114800" cy="2653560"/>
          </a:xfrm>
          <a:prstGeom prst="rect">
            <a:avLst/>
          </a:prstGeom>
          <a:solidFill>
            <a:srgbClr val="8dc6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hina…"St. Francis Xavier made it a point not only to convert the people but also destroy the idols and ancient places of worship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ffects of the Reform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itic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se of Nation-St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igio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rs and persecu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denominations develop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hasis on education from both si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ing of Beliefs &amp; Authority led to the Scientific Revolution and Enlighten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nting in vernacular helped spread Luther’s idea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ideas sparked revolts and wa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faiths emerged during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entury, as people began to interpret the Bible in different way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ounter Reformation was a movement of internal renewal, as well as a Catholic response to the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it matters today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y Protestant churches began during the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arly 1/5 of Christians in the world are Protestant (400,000,00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y Catholic schools and universities are the results of reforms within the Chu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ey Vocabula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lg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form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uther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sta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ace of Augsbur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glic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tin Luth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hann Tetz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hn Calvi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lrich Zwingl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pe Leo X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rles V, Holy Roman Emper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ize the factors that encourages the Protestant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ck Re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atholic Church was weakened by internal conflic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the Great Schism weaken the Church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 vocal opponents of the situation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ople began to question and speak out against Church practic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wned 20-33% of land in Europ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id no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ged tithe to mem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gued against sale of indulgenc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ristian Humanists wanted a return to Christian valu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62280" y="2666880"/>
            <a:ext cx="2685960" cy="419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666880"/>
            <a:ext cx="286560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2438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iticism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sential Question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o is credited with the beginning of the Protestant Reformation in Europe? Wh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File:Autograf, Martin Luther, Nordisk familjebok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81080"/>
            <a:ext cx="701064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File:Luther46c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3505320"/>
            <a:ext cx="3117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ze Martin Luther’s role in shaping the Protestant Reform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was Luther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or at Wittenberg (Germany) Univers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lieved people got to heaven only through faith in Christian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3124080"/>
            <a:ext cx="419112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inety-Five The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2485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sue: the sale of indulgen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tzel-raising money for St. Peter’s Basilic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uther posted 95-Theses to door of Wittenberg Church (1517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bated Church Abu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ble = source of religious trut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lvation through faith, not 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testant-Those who broke with RCC after 1529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formation-Movement in opposition to RC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143000"/>
            <a:ext cx="7619760" cy="5486040"/>
            <a:chOff x="457200" y="1143000"/>
            <a:chExt cx="7619760" cy="548604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761976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12880" y="4601520"/>
              <a:ext cx="5107680" cy="151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Forgiveness of all one’s sins, PAST &amp; FUTU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l J. Tetzel: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49 ( 3501 ) 56 74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File:Petersdom von Engelsburg geseh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9880" y="4375080"/>
            <a:ext cx="441972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5:22:04Z</dcterms:created>
  <dc:creator>Chris</dc:creator>
  <dc:description/>
  <dc:language>en-US</dc:language>
  <cp:lastModifiedBy>cpagliaro</cp:lastModifiedBy>
  <dcterms:modified xsi:type="dcterms:W3CDTF">2009-05-20T17:21:13Z</dcterms:modified>
  <cp:revision>24</cp:revision>
  <dc:subject/>
  <dc:title>The Renaissance &amp; Reformation</dc:title>
</cp:coreProperties>
</file>